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RedWhiteBlueStripesWhiteStarsLeftCremeRight"/>
          <p:cNvPicPr/>
          <p:nvPr/>
        </p:nvPicPr>
        <p:blipFill>
          <a:blip r:embed="rId2"/>
          <a:srcRect l="0" t="0" r="86724" b="0"/>
          <a:stretch/>
        </p:blipFill>
        <p:spPr>
          <a:xfrm>
            <a:off x="0" y="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RedWhiteBlueStripesWhiteStarsLeftCremeRight"/>
          <p:cNvPicPr/>
          <p:nvPr/>
        </p:nvPicPr>
        <p:blipFill>
          <a:blip r:embed="rId3"/>
          <a:srcRect l="0" t="0" r="86724" b="0"/>
          <a:stretch/>
        </p:blipFill>
        <p:spPr>
          <a:xfrm>
            <a:off x="0" y="914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5" descr="RedWhiteBlueStripesWhiteStarsLeftCremeRight"/>
          <p:cNvPicPr/>
          <p:nvPr/>
        </p:nvPicPr>
        <p:blipFill>
          <a:blip r:embed="rId4"/>
          <a:srcRect l="0" t="0" r="86724" b="0"/>
          <a:stretch/>
        </p:blipFill>
        <p:spPr>
          <a:xfrm>
            <a:off x="0" y="18288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6" descr="RedWhiteBlueStripesWhiteStarsLeftCremeRight"/>
          <p:cNvPicPr/>
          <p:nvPr/>
        </p:nvPicPr>
        <p:blipFill>
          <a:blip r:embed="rId5"/>
          <a:srcRect l="0" t="0" r="86724" b="0"/>
          <a:stretch/>
        </p:blipFill>
        <p:spPr>
          <a:xfrm>
            <a:off x="0" y="27432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7" descr="RedWhiteBlueStripesWhiteStarsLeftCremeRight"/>
          <p:cNvPicPr/>
          <p:nvPr/>
        </p:nvPicPr>
        <p:blipFill>
          <a:blip r:embed="rId6"/>
          <a:srcRect l="0" t="0" r="86724" b="0"/>
          <a:stretch/>
        </p:blipFill>
        <p:spPr>
          <a:xfrm>
            <a:off x="0" y="36576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8" descr="RedWhiteBlueStripesWhiteStarsLeftCremeRight"/>
          <p:cNvPicPr/>
          <p:nvPr/>
        </p:nvPicPr>
        <p:blipFill>
          <a:blip r:embed="rId7"/>
          <a:srcRect l="0" t="0" r="86724" b="0"/>
          <a:stretch/>
        </p:blipFill>
        <p:spPr>
          <a:xfrm>
            <a:off x="0" y="45720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9" descr="RedWhiteBlueStripesWhiteStarsLeftCremeRight"/>
          <p:cNvPicPr/>
          <p:nvPr/>
        </p:nvPicPr>
        <p:blipFill>
          <a:blip r:embed="rId8"/>
          <a:srcRect l="0" t="0" r="86724" b="0"/>
          <a:stretch/>
        </p:blipFill>
        <p:spPr>
          <a:xfrm>
            <a:off x="0" y="5486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0" descr="RedWhiteBlueStripesWhiteStarsLeftCremeRight"/>
          <p:cNvPicPr/>
          <p:nvPr/>
        </p:nvPicPr>
        <p:blipFill>
          <a:blip r:embed="rId9"/>
          <a:srcRect l="0" t="0" r="86724" b="50037"/>
          <a:stretch/>
        </p:blipFill>
        <p:spPr>
          <a:xfrm>
            <a:off x="0" y="6377040"/>
            <a:ext cx="9144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3352680" y="762120"/>
            <a:ext cx="3429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Gilded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Age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Politics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5248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8 Part 2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91440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1881:  Garfield Assassinat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Garfield Assassinated"/>
          <p:cNvPicPr/>
          <p:nvPr/>
        </p:nvPicPr>
        <p:blipFill>
          <a:blip r:embed="rId1"/>
          <a:srcRect l="3750" t="6419" r="3750" b="9537"/>
          <a:stretch/>
        </p:blipFill>
        <p:spPr>
          <a:xfrm>
            <a:off x="1219320" y="1143000"/>
            <a:ext cx="563868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Picture 5" descr="Charles Guiteau"/>
          <p:cNvPicPr/>
          <p:nvPr/>
        </p:nvPicPr>
        <p:blipFill>
          <a:blip r:embed="rId2"/>
          <a:stretch/>
        </p:blipFill>
        <p:spPr>
          <a:xfrm>
            <a:off x="6629400" y="3657600"/>
            <a:ext cx="2286000" cy="281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2438280" y="5410080"/>
            <a:ext cx="464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es Guiteau:</a:t>
            </a:r>
            <a:br>
              <a:rPr sz="2400"/>
            </a:br>
            <a:r>
              <a:rPr b="1" i="1" lang="en-US" sz="2000" spc="-1" strike="noStrike">
                <a:solidFill>
                  <a:srgbClr val="c00000"/>
                </a:solidFill>
                <a:latin typeface="Comic Sans MS"/>
              </a:rPr>
              <a:t>I Am a Stalwart, and Arthur is Presiden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4400" y="22860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endleton Act (18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1295280"/>
            <a:ext cx="39625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“Magna Carta”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ndards fo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xamination of applic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883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4,000 out o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17,000 federal gov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jobs became civi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rvice exam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0,000 out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,000 civil service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deral govt. jo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pol_cartoon-Pendleton Act"/>
          <p:cNvPicPr/>
          <p:nvPr/>
        </p:nvPicPr>
        <p:blipFill>
          <a:blip r:embed="rId1"/>
          <a:stretch/>
        </p:blipFill>
        <p:spPr>
          <a:xfrm>
            <a:off x="4876920" y="1752480"/>
            <a:ext cx="3965400" cy="403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14400" y="30492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Grover Cleveland"/>
          <p:cNvPicPr/>
          <p:nvPr/>
        </p:nvPicPr>
        <p:blipFill>
          <a:blip r:embed="rId1"/>
          <a:srcRect l="6000" t="3511" r="3997" b="3511"/>
          <a:stretch/>
        </p:blipFill>
        <p:spPr>
          <a:xfrm>
            <a:off x="1523880" y="1371600"/>
            <a:ext cx="3006720" cy="403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7" name="Text Box 5"/>
          <p:cNvSpPr/>
          <p:nvPr/>
        </p:nvSpPr>
        <p:spPr>
          <a:xfrm>
            <a:off x="1523880" y="5638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    James Bla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ames Blaine-1"/>
          <p:cNvPicPr/>
          <p:nvPr/>
        </p:nvPicPr>
        <p:blipFill>
          <a:blip r:embed="rId2"/>
          <a:stretch/>
        </p:blipFill>
        <p:spPr>
          <a:xfrm>
            <a:off x="5486400" y="1371600"/>
            <a:ext cx="301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981080" y="228600"/>
            <a:ext cx="6172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Dirty Campa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ol_cartoon-Cleveland as P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2193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523880" y="5654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Ma, Ma…where’s my pa?</a:t>
            </a:r>
            <a:br>
              <a:rPr sz="2400"/>
            </a:b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He’s going to the White House, ha… ha… ha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1884 Election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leveland’s First Te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1349280"/>
            <a:ext cx="739152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“Veto Governor” from New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rst Democratic elected since 185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 public office is a public tru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s laissez-faire presidenc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pposed bills to assist the poor a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ll as the r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toed over 200 special pension bi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Civil War veter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90720" y="22860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Bravo, Señor Clevelan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ol_cartoon-Cleveland as Toreador-vetoes"/>
          <p:cNvPicPr/>
          <p:nvPr/>
        </p:nvPicPr>
        <p:blipFill>
          <a:blip r:embed="rId1"/>
          <a:stretch/>
        </p:blipFill>
        <p:spPr>
          <a:xfrm>
            <a:off x="1981080" y="1219320"/>
            <a:ext cx="6096240" cy="533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e Tariff 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71600" y="12952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the Civil War, Congress rais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to protect new US indus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ig business wanted to continue th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sumers did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85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ariffs earned the US $100 mil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in surplu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 Cleveland’s view on tariffs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became a major issue in the 1888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ial 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38080" y="76320"/>
            <a:ext cx="8305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33399"/>
                </a:solidFill>
                <a:latin typeface="Comic Sans MS"/>
              </a:rPr>
              <a:t>Filing the Rough Edg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pol_cartoon-Cleveland Files Rough Edges from Tariff-188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71800" y="990720"/>
            <a:ext cx="4002120" cy="51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2" name="Text Box 4"/>
          <p:cNvSpPr/>
          <p:nvPr/>
        </p:nvSpPr>
        <p:spPr>
          <a:xfrm>
            <a:off x="1447920" y="6172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iff of 1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Grover Cleveland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Picture 4" descr="Benjamin Harrison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1600200" y="571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2666880" y="1219320"/>
            <a:ext cx="45720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The 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"Politics of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Equilibrium"</a:t>
            </a:r>
            <a:endParaRPr b="0" lang="en-US" sz="18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90720" y="15228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Coming Out for Har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ol_cartoon-coming out for Harris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066680"/>
            <a:ext cx="6934320" cy="543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19320" y="395280"/>
            <a:ext cx="7924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1888 Election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43000" y="304920"/>
            <a:ext cx="7696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Disposing the Surpl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pol_cartoon-B_Harrison Disposes of Surplus-188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43000" y="15228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hanging Public Opi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43000" y="1143000"/>
            <a:ext cx="7772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s wanted the federal govt. to de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 growing social &amp; economic problems &amp; to curb the power of the tru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state Commerce Act –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rman Antitrust Act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Tariff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theory that prosper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ed directly from protecti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already high rates another 4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. Party suffered big losses in 1890 (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lost his House seat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Grover Cleveland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7" name="Picture 4" descr="Benjamin Harrison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8" name="Text Box 5"/>
          <p:cNvSpPr/>
          <p:nvPr/>
        </p:nvSpPr>
        <p:spPr>
          <a:xfrm>
            <a:off x="1600200" y="57150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again!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DEM)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47160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92 Election"/>
          <p:cNvPicPr/>
          <p:nvPr/>
        </p:nvPicPr>
        <p:blipFill>
          <a:blip r:embed="rId1"/>
          <a:stretch/>
        </p:blipFill>
        <p:spPr>
          <a:xfrm>
            <a:off x="1143000" y="19810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43000" y="15228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eveland Loses Support F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143000"/>
            <a:ext cx="723888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President to serve two non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ecutiv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amed for the 1893 Panic because 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ended the gold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ealed Sherman Silver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federal troops in the 18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llman str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?  To Deliver the Mail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447920" y="30492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1.  A Two-Party Stale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>
            <a:lum contrast="6000"/>
          </a:blip>
          <a:srcRect l="16974" t="0" r="18137" b="0"/>
          <a:stretch/>
        </p:blipFill>
        <p:spPr>
          <a:xfrm>
            <a:off x="2430360" y="1295280"/>
            <a:ext cx="511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43000" y="15228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wo-Party “Bala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pol_cartoon-1880s balance between 2 pol partie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1143000"/>
            <a:ext cx="4422600" cy="53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343400" y="304920"/>
            <a:ext cx="44956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2.  Intens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Voter Loyalty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wo Majo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ART"/>
          <p:cNvPicPr/>
          <p:nvPr/>
        </p:nvPicPr>
        <p:blipFill>
          <a:blip r:embed="rId1">
            <a:lum contrast="6000"/>
          </a:blip>
          <a:srcRect l="0" t="0" r="0" b="12499"/>
          <a:stretch/>
        </p:blipFill>
        <p:spPr>
          <a:xfrm>
            <a:off x="1219320" y="304920"/>
            <a:ext cx="3206520" cy="6324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3.  Well-Defined Voting Bl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905120" y="1447920"/>
            <a:ext cx="1981080" cy="91440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73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mocratic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5880" y="1447920"/>
            <a:ext cx="1981440" cy="9144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ublic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895480" y="2362320"/>
            <a:ext cx="0" cy="457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7086600" y="23623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447920" y="2819520"/>
            <a:ext cx="2819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outhern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eservation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uprem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hol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ent immigra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sp. 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rban work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r (pro-la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715000" y="2819520"/>
            <a:ext cx="3124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whi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o-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rican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e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ld WASPs (suppo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anti-immigr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of the midd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4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ry Laissez Faire Federal Gov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676520" y="1371600"/>
            <a:ext cx="70866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om 1870-1900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vt. did ve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ttle dome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duties of the federal govt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 the 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tain a national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ect taxes &amp; tarif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uct a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minister the annu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vil War veterans’ p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5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Presidency as a Symbolic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19320" y="1595520"/>
            <a:ext cx="777240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 bosses ru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idents shou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offending an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ions within thei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w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resident ju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nded out federal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PATRON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5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53,000 people worked for the federal go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90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166,000   “       “      “   “     “      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roscoe_conkling"/>
          <p:cNvPicPr/>
          <p:nvPr/>
        </p:nvPicPr>
        <p:blipFill>
          <a:blip r:embed="rId1"/>
          <a:srcRect l="0" t="2432" r="0" b="0"/>
          <a:stretch/>
        </p:blipFill>
        <p:spPr>
          <a:xfrm>
            <a:off x="6172200" y="1371600"/>
            <a:ext cx="2403360" cy="304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5" name="Rectangle 5"/>
          <p:cNvSpPr/>
          <p:nvPr/>
        </p:nvSpPr>
        <p:spPr>
          <a:xfrm>
            <a:off x="5898600" y="442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</a:rPr>
              <a:t>Senator Roscoe Con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981080" y="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0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880 Election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0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1:39:57Z</dcterms:created>
  <dc:creator>Susan M. Pojer</dc:creator>
  <dc:description/>
  <dc:language>en-US</dc:language>
  <cp:lastModifiedBy>Illinois School District U-46</cp:lastModifiedBy>
  <dcterms:modified xsi:type="dcterms:W3CDTF">2013-12-09T12:55:47Z</dcterms:modified>
  <cp:revision>144</cp:revision>
  <dc:subject/>
  <dc:title>Gilded Age Politics in America</dc:title>
</cp:coreProperties>
</file>